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D81-8721-48CA-B395-94DD6BD9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3A6-8757-4800-BD71-7DF7D1D4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8A5-85B6-4BBF-9338-59F12564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48B-1C40-496D-9654-ED98E499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27D-76DC-4E40-9642-CEC6265B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07E-655A-47E7-B582-32898B26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24A-70FF-49DD-9878-4B715087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1B0-491F-4D77-89DA-858388F8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810-BB3F-4806-A3CF-CBFFD104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469-28CD-4B61-8C5D-4A418BA2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472-5DC2-48B3-B934-6E79413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273-7FB3-44F7-844A-07EE727C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3019-2CC9-459C-8D25-76EE407DC2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0" y="0"/>
          <a:ext cx="91440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8"/>
          <p:cNvSpPr/>
          <p:nvPr/>
        </p:nvSpPr>
        <p:spPr>
          <a:xfrm>
            <a:off x="2666880" y="640080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eaching        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ndon     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Programming for GCS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Variables and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coloured sky 1"/>
          <p:cNvPicPr/>
          <p:nvPr/>
        </p:nvPicPr>
        <p:blipFill>
          <a:blip r:embed="rId1"/>
          <a:stretch/>
        </p:blipFill>
        <p:spPr>
          <a:xfrm>
            <a:off x="0" y="0"/>
            <a:ext cx="9144000" cy="2152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1066680" y="990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"/>
          <p:cNvPicPr/>
          <p:nvPr/>
        </p:nvPicPr>
        <p:blipFill>
          <a:blip r:embed="rId2"/>
          <a:stretch/>
        </p:blipFill>
        <p:spPr>
          <a:xfrm>
            <a:off x="2971800" y="6248520"/>
            <a:ext cx="342900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0" descr=""/>
          <p:cNvPicPr/>
          <p:nvPr/>
        </p:nvPicPr>
        <p:blipFill>
          <a:blip r:embed="rId3"/>
          <a:stretch/>
        </p:blipFill>
        <p:spPr>
          <a:xfrm>
            <a:off x="6400800" y="5257800"/>
            <a:ext cx="2154240" cy="403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65480" cy="74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5"/>
          <a:stretch/>
        </p:blipFill>
        <p:spPr>
          <a:xfrm>
            <a:off x="3962520" y="4952880"/>
            <a:ext cx="131436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"/>
          <p:cNvPicPr/>
          <p:nvPr/>
        </p:nvPicPr>
        <p:blipFill>
          <a:blip r:embed="rId6"/>
          <a:stretch/>
        </p:blipFill>
        <p:spPr>
          <a:xfrm>
            <a:off x="7162920" y="5943600"/>
            <a:ext cx="1807920" cy="72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7"/>
          <a:stretch/>
        </p:blipFill>
        <p:spPr>
          <a:xfrm>
            <a:off x="914400" y="5181480"/>
            <a:ext cx="2266920" cy="576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8"/>
          <p:cNvSpPr/>
          <p:nvPr/>
        </p:nvSpPr>
        <p:spPr>
          <a:xfrm>
            <a:off x="73915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JD KC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9246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Values are assigned only WHEN PROGRAMMED TO DO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2133720"/>
            <a:ext cx="5410080" cy="37173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FruitSala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es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ange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pes 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 = bananas - 1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 one got e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it = apples+pears+oranges+b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 = pears - 2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over-ripe; threw them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pri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I have go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ruit,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pieces of frui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019920" y="5410080"/>
            <a:ext cx="2057400" cy="1219320"/>
          </a:xfrm>
          <a:prstGeom prst="wedgeRectCallout">
            <a:avLst>
              <a:gd name="adj1" fmla="val -24305"/>
              <a:gd name="adj2" fmla="val -126300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e thi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a SPREADSHEET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324480" y="1752480"/>
            <a:ext cx="2438640" cy="8254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sconception Alert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6172200" y="3048120"/>
            <a:ext cx="2514600" cy="1371600"/>
          </a:xfrm>
          <a:prstGeom prst="wedgeRectCallout">
            <a:avLst>
              <a:gd name="adj1" fmla="val -105555"/>
              <a:gd name="adj2" fmla="val 38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uit gets assigned its valu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ears still has the valu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391160" cy="12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Values are assigned WHEN PROGRAMMED TO DO 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880" y="1676520"/>
            <a:ext cx="5410440" cy="481464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FruitSala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es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ange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pes 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 = bananas - 1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 one got e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it = apples+pears+oranges+b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 = pears - 2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over-ripe; threw them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it = apples+pears+oranges+b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60093"/>
                </a:solidFill>
                <a:latin typeface="Arial"/>
              </a:rPr>
              <a:t>pri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pri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I have go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ruit,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pieces of frui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477120" y="5410080"/>
            <a:ext cx="2057400" cy="1219320"/>
          </a:xfrm>
          <a:prstGeom prst="wedgeRectCallout">
            <a:avLst>
              <a:gd name="adj1" fmla="val -10879"/>
              <a:gd name="adj2" fmla="val -70314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e thi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a SPREADSHEET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048120" y="2057400"/>
            <a:ext cx="2438280" cy="8254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sconception Alert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6172200" y="2590920"/>
            <a:ext cx="2514600" cy="1371600"/>
          </a:xfrm>
          <a:prstGeom prst="wedgeRectCallout">
            <a:avLst>
              <a:gd name="adj1" fmla="val -95768"/>
              <a:gd name="adj2" fmla="val 42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uit gets assigned its valu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ears still has the valu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5715000" y="4267080"/>
            <a:ext cx="3200400" cy="914400"/>
          </a:xfrm>
          <a:prstGeom prst="wedgeRectCallout">
            <a:avLst>
              <a:gd name="adj1" fmla="val -74601"/>
              <a:gd name="adj2" fmla="val 3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will be assigned a new value only if there is an instruction to make it do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LEFT AND RIGHT MATTERS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es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rs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es = = pears   will get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es = p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# check it to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ap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p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rs==apples  gets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you swop the values of two variables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800600" y="3124080"/>
            <a:ext cx="3733920" cy="762120"/>
          </a:xfrm>
          <a:prstGeom prst="wedgeRectCallout">
            <a:avLst>
              <a:gd name="adj1" fmla="val -73384"/>
              <a:gd name="adj2" fmla="val -21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ll assign the value of pears to apples… check it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6400800" y="1371600"/>
            <a:ext cx="2362320" cy="990720"/>
          </a:xfrm>
          <a:prstGeom prst="wedgeRectCallout">
            <a:avLst>
              <a:gd name="adj1" fmla="val -97782"/>
              <a:gd name="adj2" fmla="val -64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you cannot just swop them ov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410080" y="4648320"/>
            <a:ext cx="335304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sconception Aler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396252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User in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3276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way of assigning a value to a variable is to get the user to giv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 name = 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inp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339933"/>
                </a:solidFill>
                <a:latin typeface="Arial"/>
              </a:rPr>
              <a:t>“please write your 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3399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test this in the shell or include it in a program, so when python gets to this point it will ask for user input and assign the input value to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if you tell it to print that variable, it will print the value that the user ha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it…. in the shell… then write a program to get a user’s name and tell them how many letters it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71600" y="1143000"/>
            <a:ext cx="7162920" cy="1922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&gt;&gt; name =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"Please write your name   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ease write your 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arga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&gt;&gt; </a:t>
            </a: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arga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&gt;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5410080" y="2438280"/>
            <a:ext cx="3200400" cy="685800"/>
          </a:xfrm>
          <a:prstGeom prst="wedgeRectCallout">
            <a:avLst>
              <a:gd name="adj1" fmla="val 28027"/>
              <a:gd name="adj2" fmla="val -180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ve a space to make a gap before the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BUT… anything input from a keyboard is actually 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339933"/>
                </a:solidFill>
                <a:latin typeface="Arial"/>
              </a:rPr>
              <a:t>STRING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s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board input is text, and if necessary must be converted into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do this in two stages, or all-in-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57200" y="3429000"/>
            <a:ext cx="7086600" cy="25333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&gt; age =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"How old were you last birthday?    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ow old were you last birthday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&gt; age =</a:t>
            </a: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&gt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alterna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&gt; age= </a:t>
            </a: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"How old were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you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last birthday?    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ow old were you last birthday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2438280" y="6172200"/>
            <a:ext cx="6477120" cy="685800"/>
          </a:xfrm>
          <a:prstGeom prst="wedgeRectCallout">
            <a:avLst>
              <a:gd name="adj1" fmla="val -27768"/>
              <a:gd name="adj2" fmla="val -1180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this works by using age = age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will give an error if the value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a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562720" y="3962520"/>
            <a:ext cx="3352680" cy="8254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sconception Aler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Variables and assignment 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vari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name for a value that can be chang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bit  like a cell in a spread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an be an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integer, float, string, boolean, list …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tc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ype can be chang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forget what type a variable is and try to do inappropriate things to it, you will ge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ser can give a value to a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board input is always a </a:t>
            </a:r>
            <a:r>
              <a:rPr b="1" lang="en-GB" sz="2000" spc="-1" strike="noStrike">
                <a:solidFill>
                  <a:srgbClr val="339933"/>
                </a:solidFill>
                <a:latin typeface="Arial"/>
              </a:rPr>
              <a:t>“string”</a:t>
            </a:r>
            <a:r>
              <a:rPr b="0" lang="en-GB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you can chang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variable value does NOT update itself (so its NOT like a spreadsh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only changes when a new value is assigned 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means assignment  and    variable = value   is NOT a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ft and right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= means equals and is a boolean  it returns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Tr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= , 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= ,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!=  (is NOT equal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05320" y="4876920"/>
            <a:ext cx="5333760" cy="1381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sconception Alert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 are MANY misconceptions possible with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ERRORS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are some you will probably come acros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looked at errors of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you get it you use a function on the wrong type of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other erro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will gradually learn to make sense of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&gt; p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"Hello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ceback (most recent call las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le "&lt;pyshell#35&gt;", line 1, in &lt;modu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ing("Hello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ameError: name 'pring' is not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other common error, when you mistype something, it tells you that you are using a function or a variable tha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s not been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&gt; print (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"hello world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yntaxError: EOL while scanning string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&gt;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common error… I didn’t finish the string, it got to the EndOfLine without finding the 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3657600" y="4876920"/>
            <a:ext cx="1752480" cy="0"/>
          </a:xfrm>
          <a:prstGeom prst="line">
            <a:avLst/>
          </a:prstGeom>
          <a:ln w="174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562720" y="2438280"/>
            <a:ext cx="3429000" cy="1600200"/>
          </a:xfrm>
          <a:prstGeom prst="wedgeRectCallout">
            <a:avLst>
              <a:gd name="adj1" fmla="val -45416"/>
              <a:gd name="adj2" fmla="val 3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thon is also very fussy about indent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you will find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6172200" y="4800600"/>
            <a:ext cx="2666880" cy="1066680"/>
          </a:xfrm>
          <a:prstGeom prst="wedgeRectCallout">
            <a:avLst>
              <a:gd name="adj1" fmla="val -44287"/>
              <a:gd name="adj2" fmla="val 2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n you fix one error, it may tell you about another… it only bothers with the first one it s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943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Declaring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some languages VARIABLES (and other elements like functions) have to be DECL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to start by IDENTIFYING (naming) them and specifying their TYPE, (integer, string, float, list, array…)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ython declaration i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ici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en a variable  is used, python has a good guess and fixes its type by the value it is AS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ctually you can change the type by assigning a value of a differen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n’t yet given a variable a value, you cannot use it; python doesn’t yet know what type it is; you’ll get an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already met integers (whole numbers) and strings (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loat (floating point number) is a decimal, and we will meet lists and arrays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477120" y="152280"/>
            <a:ext cx="251460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ariable, declare, assign,  type,  value, integer, string, list, array, 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Check it out… in the sh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&gt;&gt; apples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&gt;&gt; apples = apples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&gt;&gt; ap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&gt;&gt;&gt; </a:t>
            </a:r>
            <a:r>
              <a:rPr b="1" lang="fr-FR" sz="2400" spc="-1" strike="noStrike">
                <a:solidFill>
                  <a:srgbClr val="d60093"/>
                </a:solidFill>
                <a:latin typeface="Arial"/>
              </a:rPr>
              <a:t>le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ap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aceback (most recent call la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le "&lt;pyshell#1&gt;", line 1, in &lt;modu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n(ap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ypeError: object of type 'int' has no le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1" lang="en-GB" sz="2800" spc="-1" strike="noStrike">
                <a:solidFill>
                  <a:srgbClr val="d60093"/>
                </a:solidFill>
                <a:latin typeface="Arial"/>
              </a:rPr>
              <a:t>len</a:t>
            </a:r>
            <a:r>
              <a:rPr b="0" lang="en-GB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works on strings, and apples is obviously a number, an integer (whole number) in 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895480" y="2362320"/>
            <a:ext cx="2057400" cy="685800"/>
          </a:xfrm>
          <a:prstGeom prst="wedgeRectCallout">
            <a:avLst>
              <a:gd name="adj1" fmla="val -26541"/>
              <a:gd name="adj2" fmla="val -104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ate 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257800" y="1219320"/>
            <a:ext cx="3657600" cy="192492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isconception  ALERT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python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does NOT mean equals, it denote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es = 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s given the val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als is actuall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=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6172200" y="4267080"/>
            <a:ext cx="2743200" cy="914400"/>
          </a:xfrm>
          <a:prstGeom prst="wedgeRectCallout">
            <a:avLst>
              <a:gd name="adj1" fmla="val -24884"/>
              <a:gd name="adj2" fmla="val -136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es = apples -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NOT an equation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0" y="6035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do arithmetic with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ut you cannot find its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More stuff to check in the sh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&gt; apples   =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&gt; apples   = =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&gt;&gt; apples = apples -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&gt;&gt;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len (ap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ceback (most recent call la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le "&lt;pyshell#20&gt;", line 1, in &lt;modu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n (ap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ypeError: object of type 'float' has no l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apples =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Pink Lad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len (ap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apples= apple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ceback (most recent call la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le "&lt;pyshell#23&gt;", line 1, in &lt;modu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= apple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ypeError: unsupported operand type(s) for -: 'str' and 'in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4419720" y="1371600"/>
            <a:ext cx="4190760" cy="1447920"/>
          </a:xfrm>
          <a:prstGeom prst="wedgeRectCallout">
            <a:avLst>
              <a:gd name="adj1" fmla="val -60226"/>
              <a:gd name="adj2" fmla="val -45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pe in the lines that begin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ee if you can explain what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More stuff to check in the sh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&gt; apples   =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&gt;&gt; apples   = =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&gt;&gt; apples = apples - 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&gt;&gt;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len (ap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ceback (most recent call la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le "&lt;pyshell#20&gt;", line 1, in &lt;modu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n (ap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ypeError: object of type 'float' has no l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apples =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Pink Lad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len (ap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&gt; apples= apple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aceback (most recent call la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le "&lt;pyshell#23&gt;", line 1, in &lt;modu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pples= apples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ypeError: unsupported operand type(s) for -: 'str' and 'in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191120" y="990720"/>
            <a:ext cx="4267080" cy="990360"/>
          </a:xfrm>
          <a:prstGeom prst="wedgeRectCallout">
            <a:avLst>
              <a:gd name="adj1" fmla="val -89138"/>
              <a:gd name="adj2" fmla="val 7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tate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es is equal to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either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133720" y="2133720"/>
            <a:ext cx="3809880" cy="609480"/>
          </a:xfrm>
          <a:prstGeom prst="wedgeRectCallout">
            <a:avLst>
              <a:gd name="adj1" fmla="val -23416"/>
              <a:gd name="adj2" fmla="val -58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pples is assigned a new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took a  big bite out of the app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6019920" y="2362320"/>
            <a:ext cx="2895480" cy="1752480"/>
          </a:xfrm>
          <a:prstGeom prst="wedgeRectCallout">
            <a:avLst>
              <a:gd name="adj1" fmla="val -103564"/>
              <a:gd name="adj2" fmla="val 24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pp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not an integer now. We have given it the value 2.7 by subtracting 0.3,   so it is a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oating poin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5181480" y="4495680"/>
            <a:ext cx="3505320" cy="685800"/>
          </a:xfrm>
          <a:prstGeom prst="wedgeRectCallout">
            <a:avLst>
              <a:gd name="adj1" fmla="val -103805"/>
              <a:gd name="adj2" fmla="val -40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es is now a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1800" spc="-1" strike="noStrike">
                <a:solidFill>
                  <a:srgbClr val="d60093"/>
                </a:solidFill>
                <a:latin typeface="Arial"/>
              </a:rPr>
              <a:t>l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pples) works f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7162920" y="5562720"/>
            <a:ext cx="1752480" cy="914400"/>
          </a:xfrm>
          <a:prstGeom prst="wedgeRectCallout">
            <a:avLst>
              <a:gd name="adj1" fmla="val -125814"/>
              <a:gd name="adj2" fmla="val -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e cannot do arithmetic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uit Salad in I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se progams into IDLE and run them… see if you can explain what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the lin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"I have got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ruit, 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"pieces of fruit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33520" y="2971800"/>
            <a:ext cx="4419360" cy="201420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FruitSala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es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anges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it=apples+pears+oranges+b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pri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5791320" y="4648320"/>
            <a:ext cx="2819160" cy="1218960"/>
          </a:xfrm>
          <a:prstGeom prst="wedgeRectCallout">
            <a:avLst>
              <a:gd name="adj1" fmla="val -77421"/>
              <a:gd name="adj2" fmla="val 47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ake a note of this construction; it’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5105520" y="2438280"/>
            <a:ext cx="2819160" cy="2057400"/>
          </a:xfrm>
          <a:prstGeom prst="wedgeRectCallout">
            <a:avLst>
              <a:gd name="adj1" fmla="val -65879"/>
              <a:gd name="adj2" fmla="val 70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change this lin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nt (“frui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ill happen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lours should give you a cl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ri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339933"/>
                </a:solidFill>
                <a:latin typeface="Arial"/>
              </a:rPr>
              <a:t>“fruit”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152280" y="685800"/>
            <a:ext cx="1371600" cy="685800"/>
          </a:xfrm>
          <a:prstGeom prst="wedgeRectCallout">
            <a:avLst>
              <a:gd name="adj1" fmla="val -11805"/>
              <a:gd name="adj2" fmla="val 2687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#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Fruit Salad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your program, and resave it with a new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33520" y="2590920"/>
            <a:ext cx="4952880" cy="322596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FruitSala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es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anges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pes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it=apples+pears+oranges+b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I have go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ruit,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pieces of frui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410080" y="2133720"/>
            <a:ext cx="3048120" cy="2057400"/>
          </a:xfrm>
          <a:prstGeom prst="wedgeRectCallout">
            <a:avLst>
              <a:gd name="adj1" fmla="val -150416"/>
              <a:gd name="adj2" fmla="val 45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es Python know grapes are f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34480" y="6172200"/>
            <a:ext cx="71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I have go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ruit,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pieces of fruit and a bunch of grapes!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5943600" y="4800600"/>
            <a:ext cx="2666880" cy="1066680"/>
          </a:xfrm>
          <a:prstGeom prst="wedgeRectCallout">
            <a:avLst>
              <a:gd name="adj1" fmla="val 16370"/>
              <a:gd name="adj2" fmla="val -123513"/>
            </a:avLst>
          </a:prstGeom>
          <a:solidFill>
            <a:srgbClr val="bbe0e3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with inserting a row in a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uit = SUM(C1:C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Even More Fruit Sa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your program, and resave it with a new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2590920"/>
            <a:ext cx="4952880" cy="350028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FruitSala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es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anges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pes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= bananas-1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 one got e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it=apples+pears+oranges+b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pri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I have go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ruit,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pieces of frui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334120" y="2133720"/>
            <a:ext cx="3047760" cy="2057400"/>
          </a:xfrm>
          <a:prstGeom prst="wedgeRectCallout">
            <a:avLst>
              <a:gd name="adj1" fmla="val -59481"/>
              <a:gd name="adj2" fmla="val 93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Even More Fruit Sa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your program, and re-save it with a new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520" y="2590920"/>
            <a:ext cx="5410080" cy="377460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FruitSala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es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ange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pes 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anas = bananas - 1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 one got e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it = apples+pears+oranges+ban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ars = pears - 2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#over-ripe; threw them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pr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I have go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ruit,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"pieces of fruit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952880" y="2362320"/>
            <a:ext cx="3505320" cy="1523880"/>
          </a:xfrm>
          <a:prstGeom prst="wedgeRectCallout">
            <a:avLst>
              <a:gd name="adj1" fmla="val -42435"/>
              <a:gd name="adj2" fmla="val 113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this what you expec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095880" y="5181480"/>
            <a:ext cx="2057400" cy="1219320"/>
          </a:xfrm>
          <a:prstGeom prst="wedgeRectCallout">
            <a:avLst>
              <a:gd name="adj1" fmla="val -90199"/>
              <a:gd name="adj2" fmla="val -45444"/>
            </a:avLst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re thi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a SPREADSHEET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400800" y="4038480"/>
            <a:ext cx="2438280" cy="8254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isconception Alert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01:11:05Z</dcterms:created>
  <dc:creator>Margaret deJ Derrington</dc:creator>
  <dc:description/>
  <dc:language>en-US</dc:language>
  <cp:lastModifiedBy>Margaret</cp:lastModifiedBy>
  <cp:lastPrinted>2015-03-30T01:58:29Z</cp:lastPrinted>
  <dcterms:modified xsi:type="dcterms:W3CDTF">2015-03-30T02:00:10Z</dcterms:modified>
  <cp:revision>17</cp:revision>
  <dc:subject/>
  <dc:title>Slide 1</dc:title>
</cp:coreProperties>
</file>